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5F1-BF03-4FDC-BA9C-31F88ED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674-537F-41C5-98DB-D592133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FB8-E4BC-420C-A0B0-6F6CFA88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9E9-ACDB-4351-9C15-EBBED3B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CF6-90D7-484B-BDEE-905301BD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9F8-B99B-4769-AF11-7B03B83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9668-38AE-4F2D-B076-29C477CE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AA2-53F6-4A33-8006-6362C6D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34BC-8015-426B-8279-A86CB74A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45D-7C8D-47BA-8C3E-1E232E7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3A8C-4795-420B-8845-FAB3FAC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2C6-F18E-4423-8ED7-B06FC8E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4A3C-1809-4A81-B866-D013BDE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80A8-5106-47FC-B068-7637DF4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0FF-DF9B-4DC2-9D16-E948AF5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6C4A-93D2-4A56-A128-AF8301B2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EF5B-F6D1-4D4C-B643-A596EC07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6981-F745-46BD-BF22-97956B0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12C0-280A-4254-B24C-EF825A0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ED3F-D6F9-435E-8000-925CF42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003E-AA68-4512-8AEC-9AA19445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472C-C513-419D-BC00-A6135940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B23-6FD7-41E8-8221-4E04E89F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88BA-0B19-48E0-9819-CF9DE6D7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6440-5624-4DA5-9653-C19E99D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478D-EE7A-4CA4-95E9-FD32EDF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D0A3-E602-4D93-B01F-2D02F07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0B7C-8B5E-49BE-8742-1981A384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531A-A456-4395-BA5D-8B817AAD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E801-3786-4C10-829D-758D1088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7DD2-FBDE-497E-824C-4107D4EF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7ADF-2393-48E1-A2AE-BE97B0E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6F24-49C8-43B9-8F64-CA38E6CB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ABB-A035-4551-A312-DC33D96C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DBFA-29BB-4F26-8448-816DD4F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D132-0802-48D4-8BF1-5163924F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537F-2C6A-4194-A78E-276B5C4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AF4F-1ACE-444F-84A2-9033F57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03F12-650A-473C-9516-2F0BA18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DA44-AAB0-43FD-A2A1-61EA3F2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449D-F06B-4D90-8C11-B40F735F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4E27-4931-490F-BDFC-A9F52EBB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C463-382E-488B-847D-EB67425C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0460-1032-4AF7-B744-AC8AF6C2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F54-8138-4E35-9EB5-6796A2F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5250-8C02-4A78-8556-5B1FB743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D7E02-423E-4ADE-8AF5-096983A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018B-66FE-4676-BC93-68E7580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57B8-EA2E-466A-8FB2-EA6DF9D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37F5-F36F-4C65-A887-571B753A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448A-1BA5-4196-B561-ABA4993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C59B-BCBD-4DD0-819B-633362E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AB89-93F1-4E3B-ABD3-4CDA124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FAF87-64B2-461F-B0B9-1EF814EC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CE47-355C-42F0-A1AC-960B74A1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D6E-2B3E-42D6-A73D-47604FA6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5740-CAC5-4A29-8860-7480CAE2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6D7-8B53-4E88-B02B-D078F55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717-D2C1-4813-8D58-524DAC2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4AC-6DF8-459B-A305-C54B817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DBC9-9C76-4F68-A308-D0C58CA35D35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CE30-89B2-49A3-9199-EDC446C9A79E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87E-58EF-4DF7-951A-0E30DBA8FD8A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F7A6-51A5-4004-9EEC-43EC9589C003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Franklin Gothic 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B8D8-64DD-4C91-91C1-4D3A3BE9E51E}" type="slidenum">
              <a:rPr b="0" lang="en-US" sz="14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PR Saves Live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29" name="Picture 2" descr="C:\Users\Jim $ Susan\Pictures\New_York_cpr_first_aid[1].jpg"/>
          <p:cNvPicPr/>
          <p:nvPr/>
        </p:nvPicPr>
        <p:blipFill>
          <a:blip r:embed="rId1"/>
          <a:stretch/>
        </p:blipFill>
        <p:spPr>
          <a:xfrm>
            <a:off x="1752480" y="1790640"/>
            <a:ext cx="609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Airway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Breathing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Circulatio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ctr">
              <a:spcBef>
                <a:spcPts val="575"/>
              </a:spcBef>
              <a:buClr>
                <a:srgbClr val="d34817"/>
              </a:buClr>
              <a:buSzPct val="85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Dial 911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Steps to CPR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Check Responsivenes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34" name="Content Placeholder 5" descr="ThumbnailServer2.jpg"/>
          <p:cNvPicPr/>
          <p:nvPr/>
        </p:nvPicPr>
        <p:blipFill>
          <a:blip r:embed="rId1"/>
          <a:stretch/>
        </p:blipFill>
        <p:spPr>
          <a:xfrm>
            <a:off x="0" y="2438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heck for Breathing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ead tilt Chin Lif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2" descr="C:\Users\Jim $ Susan\Pictures\B0TCAOVPXLKCAKBDWGYCAL2FJ4TCAILVWV2CA49KPCYCAA5N1KICAK8H373CABKC8VMCACO0QDMCANP0XY5CAHLVSZZCAFVELM2CAOJP8XKCA225RG1CATQF9DSCACK6IG4CAP0K4YYCANH4827.jpg"/>
          <p:cNvPicPr/>
          <p:nvPr/>
        </p:nvPicPr>
        <p:blipFill>
          <a:blip r:embed="rId1"/>
          <a:stretch/>
        </p:blipFill>
        <p:spPr>
          <a:xfrm>
            <a:off x="2743200" y="2590920"/>
            <a:ext cx="3452760" cy="2604960"/>
          </a:xfrm>
          <a:prstGeom prst="rect">
            <a:avLst/>
          </a:prstGeom>
          <a:ln w="0">
            <a:noFill/>
          </a:ln>
        </p:spPr>
      </p:pic>
      <p:sp>
        <p:nvSpPr>
          <p:cNvPr id="238" name="Action Button: Forward or Next 4">
            <a:hlinkClick r:id="" action="ppaction://hlinkshowjump?jump=nextslide"/>
          </p:cNvPr>
          <p:cNvSpPr/>
          <p:nvPr/>
        </p:nvSpPr>
        <p:spPr>
          <a:xfrm>
            <a:off x="6629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Check for Circulation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eel for Circulatio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Picture 2" descr="C:\Users\Jim $ Susan\Pictures\X0JCACOERR1CAB7PMW2CABVQ52OCAI1JJ33CA68WU74CADQFDGTCAUP5T2OCA8V51C5CACZCTEYCAA3PR4MCA2R364CCAE19PV2CAZ953JBCA43BJ79CA92WITPCAMU2BTZCAKOCD07CAHTKTTA.jpg"/>
          <p:cNvPicPr/>
          <p:nvPr/>
        </p:nvPicPr>
        <p:blipFill>
          <a:blip r:embed="rId1"/>
          <a:stretch/>
        </p:blipFill>
        <p:spPr>
          <a:xfrm>
            <a:off x="3048120" y="2666880"/>
            <a:ext cx="27572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Begin Compressions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43" name="Picture 3" descr="C:\Users\Jim $ Susan\Pictures\images[10].jpg"/>
          <p:cNvPicPr/>
          <p:nvPr/>
        </p:nvPicPr>
        <p:blipFill>
          <a:blip r:embed="rId1"/>
          <a:stretch/>
        </p:blipFill>
        <p:spPr>
          <a:xfrm>
            <a:off x="2895480" y="1944720"/>
            <a:ext cx="3276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Medium"/>
              </a:rPr>
              <a:t>Putting it all Together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http://video.google.com/videoplay?docid=-7885156090808245751&amp;ei=k7mhSaniMIiGqwL6zdDMCg&amp;q=CPR&amp;hl=en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Action Button: Forward or Next 3">
            <a:hlinkClick r:id="" action="ppaction://hlinkshowjump?jump=nextslide"/>
          </p:cNvPr>
          <p:cNvSpPr/>
          <p:nvPr/>
        </p:nvSpPr>
        <p:spPr>
          <a:xfrm>
            <a:off x="68580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Pocket mas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One- Way Valv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Proper Hand position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And placeme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Equipment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  <p:pic>
        <p:nvPicPr>
          <p:cNvPr id="249" name="Picture 2" descr="C:\Users\Jim $ Susan\Pictures\RH3CA5G02K4CABJOJNDCA2SL7M3CA0IX07GCAUR90QACA4FTMUQCACTPX0HCAJ6VG4HCABQ7FOVCALJJSYOCA8Z0IVWCAO1BQ2FCAK631M8CA0ZRGYWCA7JONT6CA985XOCCA5JQIGDCA3SCZCG.jpg"/>
          <p:cNvPicPr/>
          <p:nvPr/>
        </p:nvPicPr>
        <p:blipFill>
          <a:blip r:embed="rId1"/>
          <a:stretch/>
        </p:blipFill>
        <p:spPr>
          <a:xfrm>
            <a:off x="4572000" y="5181480"/>
            <a:ext cx="1095480" cy="113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Jim $ Susan\Pictures\GQ2CA4X2AGXCAW0KJ76CA5886ILCACSRLYUCAFBNXMBCAVUGU33CAJTC5TSCASKUKHMCAKPUJNJCA2UFHN6CAGGIA8HCATABFUBCAKX44VCCAWYL06PCA5665ZCCANDY29JCA6LUK5MCACSIADR.jpg"/>
          <p:cNvPicPr/>
          <p:nvPr/>
        </p:nvPicPr>
        <p:blipFill>
          <a:blip r:embed="rId2"/>
          <a:stretch/>
        </p:blipFill>
        <p:spPr>
          <a:xfrm>
            <a:off x="4572000" y="1447920"/>
            <a:ext cx="1276200" cy="128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Jim $ Susan\Pictures\72SCA4DQBMJCAP2A5EPCAGAEX4DCATESIPWCAJD3TXJCA48OHXPCACWH9R0CAV2REB1CAJG70V7CA9CVTLVCAV0HWBCCAS2MDNRCADTX1ZJCAMMNVW4CAGS7G50CAM5E5EDCA1BU60JCAN4TQB9.jpg"/>
          <p:cNvPicPr/>
          <p:nvPr/>
        </p:nvPicPr>
        <p:blipFill>
          <a:blip r:embed="rId3"/>
          <a:stretch/>
        </p:blipFill>
        <p:spPr>
          <a:xfrm>
            <a:off x="4572000" y="3352680"/>
            <a:ext cx="10666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Franklin Gothic Book"/>
              </a:rPr>
              <a:t>Thank You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The End</a:t>
            </a:r>
            <a:endParaRPr b="0" lang="en-US" sz="40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im $ Susan</dc:creator>
  <dc:description/>
  <dc:language>en-US</dc:language>
  <cp:lastModifiedBy>Jim $ Susan</cp:lastModifiedBy>
  <dcterms:modified xsi:type="dcterms:W3CDTF">2009-02-22T21:02:12Z</dcterms:modified>
  <cp:revision>5</cp:revision>
  <dc:subject/>
  <dc:title>Slide 1</dc:title>
</cp:coreProperties>
</file>